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66320" y="210600"/>
            <a:ext cx="633564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1AD8-7BB0-4D7E-8B67-62D14EF04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용적 욕심 없는 자연에 대한 추상적인 사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생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 활동과 동떨어진 놀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절대 권위 없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적인 논쟁도 권위에 호소하지 않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밀레토스 학파의 철학자들은 타인의 생각에 동의하지 않았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성과 논리와 관찰을 통해 타인의 생각을 공격하고 자신의 주장을 뒷받침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근의 연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집트 문화가 에게 해 주변의 헬레나 문화 발전에 영향을 미치긴 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헬레나 세계의 내부에서도 다양한 마술과 민간 전승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금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점성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종교적 신비주의 등이 민중 속에서 여전히 유행했다는 사실은 이들과 과학지식이 경쟁했음을 시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생산력 열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입에 의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평야보다는 산과 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앙집중적인 절대 권력 나타나기 보다는 분산된 도시국가 형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신에 정치 구조에 대한 합리적 토론 이루어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왕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귀족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주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폭군정 분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치 구조에 관한 합리적 토론과 자연의 구조에 관한 탐구는 종이 한 장 차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제로 정치적 토론은 그리스 과학의 기원에 이르는 한 경로를 제공했을 것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여전히 그리스 자연철학 탄생의 이유는 완벽히 해명 안 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스 과학은 그리스에서 기원한 것이 아니라 당시에는 비옥했던 소아시아의 지중해 연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날의 터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기원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처음에는 밀레투스라는 도시에서 시작하여 이오니아라 불리는 지역의 여러 다른 도시로 퍼져나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원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경 그리스 문명의 중심은 이오니아였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스 본토는 확실히 변방이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오니아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동안 그리스 본토보다 도시화나 경제적인 면에서 우월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초의 자연철학자 대부분이 이오니아 출신인 것은 놀라운 일이 아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상에 무관심하다는 평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물 일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부러 들어갔다는 해석도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원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8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8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의 일식 예측하여 전쟁 종식시켰다는 일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상에 무심한 탈레스의 대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나도 원한다면 나의 지혜를 이용하여 돈을 벌 수 있음 보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탈레스에 관한 재미있는 많은 일화는 다른 위인들이 경우처럼 사실이 아닐지도 모르지만 적어도 그럴싸한 얘기들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는 얼마나 쉽게 부자가 될 수 있는가를 보여준 적이 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올리브 대풍작을 예견한 그는 그 지역의 모든 착유기에 대한 전매권을 얻은 다음 나중에 착유기를 빌려주어 많은 돈을 벌어들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말을 잘 안듣는 노새에 관한 일화가 있는데 이 노새는 소금을 운반할때 냇물에 이르면 그 냇물에 뒹굴어 소금을 물에 녹게 한 다음 보다 가볍게 운반하곤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래서 탈레스는 한번은 이 노새에게 스펀지를 운반하게 해서 골치아픈 노새의 습관을 없애버렸다는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그림자를 이용하여 피라미드의 높이를 계산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탈레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렇다면 물의 대립물인 불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은 물을 끓여 없애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은 불을 꺼버린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낙시만드로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한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형의 초기 상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페이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apeiron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으로부터 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습 등의 이원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uality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나오고 세계가 나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너무 뜬구름 잡는 소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낙시메네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공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립물은 흙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로 대립하는 두 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응축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희박화의 힘이 존재하므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공기가 다양한 밀도로 응축되어 액체와 고체가 되기도 하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희박해져서 불이 되기도 한다고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엠페도클레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공기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소로 이루어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천년 동안 영향력 발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들 사이에는 사랑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Lov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 싸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trife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인력과 척력 존재한다고 생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2320" y="210960"/>
            <a:ext cx="6624720" cy="4969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37600" y="5468400"/>
            <a:ext cx="626436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지구는 아무런 받침대 없이 우주의 중심에 자리잡고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왜냐하면 지구는 어떤 방향으로든 움직일 이유가 없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따라서 정지해 있기 때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F7D-E031-43DD-B9E1-4E1BBB0B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79640" y="397692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113-70AE-4C93-AD2E-2E7010F3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476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F2C-853B-47B9-9258-1A3977B5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4656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348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7964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4656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348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96A-7224-44D0-833F-DF2B2956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4077-638A-4424-8B72-0AD46A46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BF72-2E87-4E82-8A50-41589CD5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6140-F84E-4C64-AE9D-369CB7C2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CED9-DC9D-4448-B707-21FF0E6D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7D0-8733-4AB5-8D5C-CC54A763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79640" y="301320"/>
            <a:ext cx="670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498E-E615-4428-A60E-3BE99EC2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5B06-1429-444D-B630-788DCFAB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FB1-F314-4539-A68C-694DDE60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1476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A4DA-27AE-4D2F-8244-FDB9B4BC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44D1-335A-41B5-81A2-AC1FF31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79640" y="397692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6C7F-3D85-44AD-8D2B-B5C6FCD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1476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ED41-FAA6-4050-8EC1-91C59934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4656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13480" y="182736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7964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4656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13480" y="3976920"/>
            <a:ext cx="215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4B0E-5568-4F0D-A729-DC6D06F3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BF5-8A40-47B0-B886-9B318CA7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664-9876-4D0F-8D1E-0C5D345E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5F6-F0A6-4654-AC1C-012A9DB6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9640" y="301320"/>
            <a:ext cx="670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D6B-E552-4B56-A0CD-78590B47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C5D-A777-4B0F-A1E9-8F77F1BC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4760" y="397692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FFB-4396-4E93-B07E-446BF378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4760" y="1827360"/>
            <a:ext cx="327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79640" y="3976920"/>
            <a:ext cx="670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892-0373-4FBE-BE90-1B26E05F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vantGarde Bk BT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F81F-3D0E-4D98-9FFD-CDCE2DF0B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9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95F4-AFEB-423B-B55B-D39086F0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eocities.com/trepanationz/ozone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08000" y="-3124080"/>
            <a:ext cx="9564840" cy="12030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9280" y="549360"/>
            <a:ext cx="30006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산돌목필B"/>
              </a:rPr>
              <a:t>자연철학의 탄생</a:t>
            </a:r>
            <a:endParaRPr b="0" lang="en-US" sz="4000" spc="1" strike="noStrike">
              <a:ln w="1584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산돌목필B"/>
              <a:ea typeface="산돌목필B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47640" y="301320"/>
            <a:ext cx="533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아낙시메네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Anaximene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Miletus, 585?-525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만물의 근원은 공기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사물은 無에서 생성 안됨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다양한 물질의 생성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공기의 응축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희박화 정도에 따름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→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원자론자에 영향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79640" y="189000"/>
          <a:ext cx="125244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9000"/>
                    <a:ext cx="12524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508720" y="4508640"/>
            <a:ext cx="28573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301320"/>
            <a:ext cx="533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피타고라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Pythagora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Samos, 582?-500?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pic>
        <p:nvPicPr>
          <p:cNvPr id="127" name="" descr="pythagoras"/>
          <p:cNvPicPr/>
          <p:nvPr/>
        </p:nvPicPr>
        <p:blipFill>
          <a:blip r:embed="rId1"/>
          <a:stretch/>
        </p:blipFill>
        <p:spPr>
          <a:xfrm>
            <a:off x="1979640" y="189000"/>
            <a:ext cx="124776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79640" y="1827000"/>
            <a:ext cx="670392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만물의 근원은 수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數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피타고라스 학파의 교주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이탈리아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영혼 정화를 위한 수학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수학적 이상주의 전통의 진원지 → 플라톤에 영향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정수와 실제 세계 사이의 연관 강조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음악적 비례와 수적 비례 사이의 연관 발견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우주의 수학적 질서 탐구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거대한 교향곡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수신비주의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(e.g.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여성은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2,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남성은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3,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따라서 결혼은 </a:t>
            </a:r>
            <a:r>
              <a:rPr b="0" lang="ko-KR" sz="1700" spc="-1" strike="noStrike">
                <a:solidFill>
                  <a:srgbClr val="000000"/>
                </a:solidFill>
                <a:latin typeface="AvantGarde Bk BT"/>
              </a:rPr>
              <a:t>5)</a:t>
            </a:r>
            <a:endParaRPr b="1" lang="en-US" sz="17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연역적 추론과 증명 →  순수 수학의 발전 추동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피타고라스의 정리 증명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무리수의 존재 함축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귀류법을 통한 증명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 But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비밀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79640" y="1916280"/>
            <a:ext cx="6985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19640" y="301320"/>
            <a:ext cx="396072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AvantGarde Bk BT"/>
              </a:rPr>
              <a:t>헤라클레이토스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(Heraclitus)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Ephesus, 540?-480? B.C.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	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	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Vs.</a:t>
            </a:r>
            <a:br>
              <a:rPr sz="2400"/>
            </a:br>
            <a:r>
              <a:rPr b="1" lang="ko-KR" sz="3200" spc="-1" strike="noStrike">
                <a:solidFill>
                  <a:srgbClr val="006666"/>
                </a:solidFill>
                <a:latin typeface="AvantGarde Bk BT"/>
              </a:rPr>
              <a:t>파르메니데스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(Parmenides)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Elea, around 480 B.C.</a:t>
            </a:r>
            <a:endParaRPr b="1" lang="en-US" sz="2400" spc="-1" strike="noStrike">
              <a:solidFill>
                <a:srgbClr val="006666"/>
              </a:solidFill>
              <a:latin typeface="AvantGarde Bk BT"/>
            </a:endParaRPr>
          </a:p>
        </p:txBody>
      </p:sp>
      <p:pic>
        <p:nvPicPr>
          <p:cNvPr id="131" name="" descr="Heraclitus"/>
          <p:cNvPicPr/>
          <p:nvPr/>
        </p:nvPicPr>
        <p:blipFill>
          <a:blip r:embed="rId1"/>
          <a:stretch/>
        </p:blipFill>
        <p:spPr>
          <a:xfrm>
            <a:off x="1979640" y="189000"/>
            <a:ext cx="125712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Parmenides"/>
          <p:cNvPicPr/>
          <p:nvPr/>
        </p:nvPicPr>
        <p:blipFill>
          <a:blip r:embed="rId2"/>
          <a:stretch/>
        </p:blipFill>
        <p:spPr>
          <a:xfrm>
            <a:off x="7451640" y="836640"/>
            <a:ext cx="120024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979640" y="2565360"/>
          <a:ext cx="6703920" cy="2139840"/>
        </p:xfrm>
        <a:graphic>
          <a:graphicData uri="http://schemas.openxmlformats.org/drawingml/2006/table">
            <a:tbl>
              <a:tblPr/>
              <a:tblGrid>
                <a:gridCol w="936720"/>
                <a:gridCol w="2735280"/>
                <a:gridCol w="30319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만물은 끊임없이 변화한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‘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’란 우리 감각의 환영일 뿐이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감각의 지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신중히 사용한다면 감각도 지식의 근거가 될 수 있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감각은 신뢰할 수 없으며 오직 이성에만 의존해야 한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08000" y="4941720"/>
            <a:ext cx="6704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감각의 신뢰성 문제 → ‘지식의 토대’ 문제로 발전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어떻게 질서 잡힌 우주에서 변화를 설명할 것인가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	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→ 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엠페도클레스의 중도 노선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47640" y="301320"/>
            <a:ext cx="533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엠페도클레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Empedocle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Acragas, 490?-430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물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불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흙의 네 뿌리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(rhizomata)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이론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다양한 물질의 형성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네 뿌리간의 결합과 분리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상대적인 양에 의존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사랑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(Love)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과 투쟁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(Strife)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의 두 원리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37" name="" descr="Empedocles"/>
          <p:cNvPicPr/>
          <p:nvPr/>
        </p:nvPicPr>
        <p:blipFill>
          <a:blip r:embed="rId1"/>
          <a:stretch/>
        </p:blipFill>
        <p:spPr>
          <a:xfrm>
            <a:off x="1979640" y="189000"/>
            <a:ext cx="120024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naxagoras"/>
          <p:cNvPicPr/>
          <p:nvPr/>
        </p:nvPicPr>
        <p:blipFill>
          <a:blip r:embed="rId2"/>
          <a:stretch/>
        </p:blipFill>
        <p:spPr>
          <a:xfrm>
            <a:off x="1908000" y="4076640"/>
            <a:ext cx="1266840" cy="1524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03640" y="4365720"/>
            <a:ext cx="540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아낙사고라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(Anaxagora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Clazomenae, 500?-428? B.C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734080"/>
            <a:ext cx="6704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무한히 많은 수의 기본물질 존재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순수물질 부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모든 것은 함께 있었고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모든 것은 모든 것의 부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" name="" descr="[Earth, Air, Fire, Water]"/>
          <p:cNvPicPr/>
          <p:nvPr/>
        </p:nvPicPr>
        <p:blipFill>
          <a:blip r:embed="rId3"/>
          <a:stretch/>
        </p:blipFill>
        <p:spPr>
          <a:xfrm>
            <a:off x="1979640" y="1773360"/>
            <a:ext cx="676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Democritus"/>
          <p:cNvPicPr/>
          <p:nvPr/>
        </p:nvPicPr>
        <p:blipFill>
          <a:blip r:embed="rId1"/>
          <a:stretch/>
        </p:blipFill>
        <p:spPr>
          <a:xfrm>
            <a:off x="7153200" y="981000"/>
            <a:ext cx="1928880" cy="2232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3640" y="301320"/>
            <a:ext cx="547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레우키포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Leucippu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Miletus, Around 435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79640" y="2707920"/>
            <a:ext cx="67039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원자론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계는 원자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분할불가능한 입자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와 진공으로 이루어졌다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계의 형성과 변화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진공 속에 있는 원자의 모양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위치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운동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배열 등의 우연적이고 기계적인 방식에 의존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무신론이라는 평판 얻음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현대의 원자론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17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기 부활하여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19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세기 현대적 원자론 탄생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그 전까지 원자론의 추종자는 극히 소수였음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1413000"/>
            <a:ext cx="439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데모크리토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(Democritu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  <a:ea typeface="가는각진제목체"/>
              </a:rPr>
              <a:t>Abdera, 460?-370? B.C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08000" y="333360"/>
          <a:ext cx="1219320" cy="14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33360"/>
                    <a:ext cx="12193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47640" y="301680"/>
            <a:ext cx="53355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AvantGarde Bk BT"/>
              </a:rPr>
              <a:t>히포크라테스</a:t>
            </a: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(Hippocrates)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Cos, 460?-370? B.C.,</a:t>
            </a:r>
            <a:br>
              <a:rPr sz="2400"/>
            </a:br>
            <a:r>
              <a:rPr b="1" lang="ko-KR" sz="2400" spc="-1" strike="noStrike">
                <a:solidFill>
                  <a:srgbClr val="006666"/>
                </a:solidFill>
                <a:latin typeface="AvantGarde Bk BT"/>
              </a:rPr>
              <a:t>그리고 히포크라테스 전집의 의사들</a:t>
            </a:r>
            <a:endParaRPr b="1" lang="en-US" sz="24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79640" y="1915920"/>
            <a:ext cx="67039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치료와 철학적 체계화의 결합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병의 원인을 신이 아닌 자연에서 찾음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4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체액설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네 가지 체액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피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액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황담즙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흑담즙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의 비율에 따라 사람의 성격과 건강 결정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치료보다는 예방 강조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치료는 네 체액의 균형을 회복시키는 것을 통해 가능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다소 조잡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너무 추상적인 사변은 멀리함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당대의 다양한 형태의 치료술과 경쟁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그들이 남긴 기록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꼼꼼한 임상 기록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히포크라테스 전집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히포크라테스 선서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89000"/>
            <a:ext cx="11952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vantGarde Bk BT"/>
              </a:rPr>
              <a:t>Thank you!</a:t>
            </a:r>
            <a:endParaRPr b="1" lang="en-US" sz="6000" spc="-1" strike="noStrike">
              <a:solidFill>
                <a:srgbClr val="006666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vantGarde Bk BT"/>
              </a:rPr>
              <a:t>차례</a:t>
            </a: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헬레나 시대의 그리스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탈레스와 밀레토스 학파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물질이론 논쟁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피타고라스 학파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헤라클레이토스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파르메니데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변화이론 논쟁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엠페도클레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물질이론과 변화이론의 종합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원자론자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레우키포스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데모크리토스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히포크라테스 전집의 의사들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헬레나 시대의 그리스</a:t>
            </a:r>
            <a:br>
              <a:rPr sz="36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Hellenic era, 600-300 B.C.)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자연철학’의 발명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지식 자체를 위한 지식 탐구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(vs.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원초문명의 실용적 지식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자연에 대한 탈신비화와 객관화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(vs.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신화적 우주론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보편적 현상에 대한 일반적 해명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(vs.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목록의 과학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사적 탐구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(vs. 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익명의 과학</a:t>
            </a:r>
            <a:r>
              <a:rPr b="0" lang="ko-KR" sz="1800" spc="-1" strike="noStrike">
                <a:solidFill>
                  <a:srgbClr val="006666"/>
                </a:solidFill>
                <a:latin typeface="AvantGarde Bk BT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학문을 위한 제도적 기관 無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공적 지원 無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학파들’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사적인 모임이나 동아리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개인의 지적 재산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책임과 명예는 모두 개인의 몫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합리적인 비판과 논쟁의 전통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6985080" cy="421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vantGarde Bk BT"/>
              </a:rPr>
              <a:t>그리스의 도시국가들</a:t>
            </a: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68360" y="2133720"/>
            <a:ext cx="2665440" cy="1295280"/>
          </a:xfrm>
          <a:prstGeom prst="rect">
            <a:avLst/>
          </a:prstGeom>
          <a:solidFill>
            <a:srgbClr val="99cccc">
              <a:alpha val="53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척박한 생산 조건과 지형 조건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상업적이고 외향적인 해상문명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정치적으로 분산된 도시국가들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중앙집중적인 관료국가 불가능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정치 구조에 대한 합리적 토론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vantGarde Bk BT"/>
              </a:rPr>
              <a:t>상대적으로 비옥했던 이오니아 지방</a:t>
            </a:r>
            <a:endParaRPr b="1" lang="en-US" sz="13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3141720"/>
            <a:ext cx="1224000" cy="1079280"/>
          </a:xfrm>
          <a:prstGeom prst="ellipse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640" y="301680"/>
            <a:ext cx="67039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vantGarde Bk BT"/>
              </a:rPr>
              <a:t>소크라테스 이전 자연철학자들</a:t>
            </a:r>
            <a:endParaRPr b="1" lang="en-US" sz="3200" spc="-1" strike="noStrike">
              <a:solidFill>
                <a:srgbClr val="006666"/>
              </a:solidFill>
              <a:latin typeface="AvantGarde Bk B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79640" y="1015920"/>
          <a:ext cx="6703920" cy="5653080"/>
        </p:xfrm>
        <a:graphic>
          <a:graphicData uri="http://schemas.openxmlformats.org/drawingml/2006/table">
            <a:tbl>
              <a:tblPr/>
              <a:tblGrid>
                <a:gridCol w="4176720"/>
                <a:gridCol w="2527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밀레토스 학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탈레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낙시만드로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낙시메네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크라가스의 엠페도클레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피타고라스 학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사모스의 피타고라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변화의 철학자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에페수스의 헤라클레이토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엘레아의 파르메니데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원자론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밀레토스의 레우키포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압데라의 데모크리토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전성기 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테네의 소크라테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70?-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아테네의 플라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428-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스타기라의 아리스토텔레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기원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 Bk BT"/>
                          <a:ea typeface="가는각진제목체"/>
                        </a:rPr>
                        <a:t>384-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01320"/>
            <a:ext cx="540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탈레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Thales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Miletus, 624?-548/545?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최초의 과학자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최초의 자연철학자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물질이론 창시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밀레토스 학파 형성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별만 바라보고 걷던 나머지 우물에 빠진 탈레스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지식 자체를 위한 지식 탐구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지구가 물 위에 나무토막이나 배처럼 떠 있으며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지진은 물의 움직임 때문에 발생한다</a:t>
            </a: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자연에 대한 탈신비화와 일반적 해명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vantGarde Bk BT"/>
              </a:rPr>
              <a:t>탈레스의 정리들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증명에 대한 관심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ff0000"/>
                </a:solidFill>
                <a:latin typeface="AvantGarde Bk BT"/>
              </a:rPr>
              <a:t>지식에 대한 사적 책임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4" name="" descr="Thales"/>
          <p:cNvPicPr/>
          <p:nvPr/>
        </p:nvPicPr>
        <p:blipFill>
          <a:blip r:embed="rId1"/>
          <a:stretch/>
        </p:blipFill>
        <p:spPr>
          <a:xfrm>
            <a:off x="1979640" y="260280"/>
            <a:ext cx="1181160" cy="142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5400000">
            <a:off x="3528360" y="3104280"/>
            <a:ext cx="287280" cy="216000"/>
          </a:xfrm>
          <a:custGeom>
            <a:avLst/>
            <a:gdLst>
              <a:gd name="textAreaLeft" fmla="*/ 95760 w 287280"/>
              <a:gd name="textAreaRight" fmla="*/ 246240 w 287280"/>
              <a:gd name="textAreaTop" fmla="*/ 124560 h 216000"/>
              <a:gd name="textAreaBottom" fmla="*/ 1850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28360" y="4185360"/>
            <a:ext cx="287280" cy="216000"/>
          </a:xfrm>
          <a:custGeom>
            <a:avLst/>
            <a:gdLst>
              <a:gd name="textAreaLeft" fmla="*/ 95760 w 287280"/>
              <a:gd name="textAreaRight" fmla="*/ 246240 w 287280"/>
              <a:gd name="textAreaTop" fmla="*/ 124560 h 216000"/>
              <a:gd name="textAreaBottom" fmla="*/ 1850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528000" y="4977360"/>
            <a:ext cx="287640" cy="216000"/>
          </a:xfrm>
          <a:custGeom>
            <a:avLst/>
            <a:gdLst>
              <a:gd name="textAreaLeft" fmla="*/ 95760 w 287640"/>
              <a:gd name="textAreaRight" fmla="*/ 246600 w 287640"/>
              <a:gd name="textAreaTop" fmla="*/ 124560 h 216000"/>
              <a:gd name="textAreaBottom" fmla="*/ 1850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vantGarde Bk BT"/>
              </a:rPr>
              <a:t>탈레스의 정리들</a:t>
            </a:r>
            <a:endParaRPr b="1" lang="en-US" sz="3600" spc="-1" strike="noStrike">
              <a:solidFill>
                <a:srgbClr val="006666"/>
              </a:solidFill>
              <a:latin typeface="AvantGarde Bk B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7097760" cy="486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3528720" cy="3038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672000" cy="310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03640" y="5589720"/>
            <a:ext cx="50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증명된 명제</a:t>
            </a:r>
            <a:r>
              <a:rPr b="1" lang="en-US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, </a:t>
            </a:r>
            <a:r>
              <a:rPr b="1" lang="zh-CN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즉 ‘정리</a:t>
            </a:r>
            <a:r>
              <a:rPr b="1" lang="en-US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' </a:t>
            </a:r>
            <a:r>
              <a:rPr b="1" lang="zh-CN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창안 </a:t>
            </a:r>
            <a:r>
              <a:rPr b="1" lang="en-US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&amp; </a:t>
            </a:r>
            <a:r>
              <a:rPr b="1" lang="zh-CN" sz="3000" spc="-1" strike="noStrike">
                <a:solidFill>
                  <a:srgbClr val="ff0000"/>
                </a:solidFill>
                <a:latin typeface="가는각진제목체"/>
                <a:ea typeface="가는각진제목체"/>
              </a:rPr>
              <a:t>정리에 탈레스의 이름 붙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191628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탈레스의 정리</a:t>
            </a:r>
            <a:r>
              <a:rPr b="0" lang="en-US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: “</a:t>
            </a:r>
            <a:r>
              <a:rPr b="0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모든 원의 지름의 원주각은 직각이다</a:t>
            </a:r>
            <a:r>
              <a:rPr b="0" lang="en-US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640" y="301320"/>
            <a:ext cx="670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밀레토스 학파의 형성</a:t>
            </a:r>
            <a:br>
              <a:rPr sz="36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사물의 물질적 기초에 관한 질문과 답변들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탈레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물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아낙시만드로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무한자</a:t>
            </a:r>
            <a:r>
              <a:rPr b="0" lang="ko-KR" sz="2400" spc="-1" strike="noStrike">
                <a:solidFill>
                  <a:srgbClr val="000000"/>
                </a:solidFill>
                <a:latin typeface="AvantGarde Bk BT"/>
              </a:rPr>
              <a:t>(apeiron)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아낙시메네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0" lang="ko-KR" sz="2400" spc="-1" strike="noStrike">
                <a:solidFill>
                  <a:srgbClr val="000000"/>
                </a:solidFill>
                <a:latin typeface="AvantGarde Bk BT"/>
              </a:rPr>
              <a:t>(pneuma)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엠페도클레스</a:t>
            </a: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네 뿌리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물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불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흙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합리적 비판과 논쟁 밀레토스 학파 형성 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(C.f.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피타고라스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수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數</a:t>
            </a:r>
            <a:r>
              <a:rPr b="0" lang="ko-KR" sz="2900" spc="-1" strike="noStrike">
                <a:solidFill>
                  <a:srgbClr val="000000"/>
                </a:solidFill>
                <a:latin typeface="AvantGarde Bk BT"/>
              </a:rPr>
              <a:t>))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372360" y="4402080"/>
            <a:ext cx="2447640" cy="2455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47640" y="301320"/>
            <a:ext cx="533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AvantGarde Bk BT"/>
              </a:rPr>
              <a:t>아낙시만드로스</a:t>
            </a: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(Anaximander)</a:t>
            </a:r>
            <a:br>
              <a:rPr sz="2800"/>
            </a:br>
            <a:r>
              <a:rPr b="1" lang="ko-KR" sz="2800" spc="-1" strike="noStrike">
                <a:solidFill>
                  <a:srgbClr val="006666"/>
                </a:solidFill>
                <a:latin typeface="AvantGarde Bk BT"/>
              </a:rPr>
              <a:t>Miletus, 610?-546/545? B.C.</a:t>
            </a:r>
            <a:endParaRPr b="1" lang="en-US" sz="2800" spc="-1" strike="noStrike">
              <a:solidFill>
                <a:srgbClr val="006666"/>
              </a:solidFill>
              <a:latin typeface="AvantGarde Bk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79640" y="1827360"/>
            <a:ext cx="670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다양성 속에 통일성 존재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세계의 온냉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건습 같은 대립된 성질은 원래 무한자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(apeiron)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라 불리는 통일체에서 비롯되었음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900" spc="-1" strike="noStrike">
                <a:solidFill>
                  <a:srgbClr val="000000"/>
                </a:solidFill>
                <a:latin typeface="AvantGarde Bk BT"/>
              </a:rPr>
              <a:t>천문학과 지리학</a:t>
            </a:r>
            <a:endParaRPr b="1" lang="en-US" sz="29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지구는 우주의 중심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받침대 無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우주 및 지구모형 고안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태양의 운행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vantGarde Bk BT"/>
              </a:rPr>
              <a:t>일식 월식 설명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최초의 세계 지도</a:t>
            </a:r>
            <a:r>
              <a:rPr b="1" lang="ko-KR" sz="25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5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19" name="" descr="Anaximander"/>
          <p:cNvPicPr/>
          <p:nvPr/>
        </p:nvPicPr>
        <p:blipFill>
          <a:blip r:embed="rId3"/>
          <a:stretch/>
        </p:blipFill>
        <p:spPr>
          <a:xfrm>
            <a:off x="1979640" y="26028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FIGURE 67. &lt;i&gt;The Universe according to Anaximander&lt;/i&gt;&lt;br&gt; (&lt;i&gt;c. 611-545 B.C.&lt;/i&gt;)&lt;br&gt; (From &lt;i&gt;Dante and the Early Astronomers&lt;/i&gt;; M. A. Orr (Mrs. John Evershed), 1913.)"/>
          <p:cNvPicPr/>
          <p:nvPr/>
        </p:nvPicPr>
        <p:blipFill>
          <a:blip r:embed="rId4"/>
          <a:stretch/>
        </p:blipFill>
        <p:spPr>
          <a:xfrm>
            <a:off x="3203640" y="4869000"/>
            <a:ext cx="24843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5:55:34Z</dcterms:created>
  <dc:creator>Woogie</dc:creator>
  <dc:description/>
  <dc:language>en-US</dc:language>
  <cp:lastModifiedBy>Woogie</cp:lastModifiedBy>
  <dcterms:modified xsi:type="dcterms:W3CDTF">2007-03-13T07:51:24Z</dcterms:modified>
  <cp:revision>8</cp:revision>
  <dc:subject/>
  <dc:title>자연철학의 탄생</dc:title>
</cp:coreProperties>
</file>